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375-1E92-40FE-B8A4-4A30C509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400-CC13-41FB-8934-A5FF5898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BC5-F65D-41F9-B0BF-30ED2FAA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7F8-A349-49E8-9E38-9FB1B810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B12-217E-4166-8C7F-18CD6CB7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1FDA-0788-42A8-A5D5-B7ED498F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E4E-983C-40D1-8561-7954CEA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7A00-72E7-42CB-A64D-7487EA59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2D9-5D4F-4F62-BE1F-2217C8F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92C2-E808-4A1A-B578-2C58535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4337-141B-4F3B-9A5C-CAE0627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8CF-D4AF-47E7-A3CE-279CE86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6E01-1DE1-4F85-85C5-2E71751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9A8-2482-4DB0-89F5-1E343A92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0CD-7702-465A-ABD7-22D469E4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637-E738-4F04-85DA-D38A93AB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3731-7FFF-4FA3-8A8A-E58E7DF8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CBA-08D6-4EEC-9089-DC3E3BC1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9D1-227A-4900-B10B-E7F9C75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F5E-BD16-413E-B1B4-2475D997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DAB-C2DF-484E-A893-5925CC1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3A2-0BE4-4BED-8CC0-745D5CA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57C-6C6D-4DAE-8E03-C32FC82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24F-FDB4-4E89-BCE8-8EFE277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A2A-4A59-40E4-8B91-348519C569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60CC-F0AD-489D-A67A-7BE2C9B2D3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73080"/>
            <a:ext cx="84978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Универсальный асинхронный</a:t>
            </a:r>
            <a:br>
              <a:rPr sz="4000"/>
            </a:b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приемо-передатчик (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UART</a:t>
            </a: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я №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85080" cy="65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SCON0: Регистр управления UART0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572320" cy="11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85840" y="1863720"/>
            <a:ext cx="85723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араметры настройки таймера для стандартных скоростей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ередачи данных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562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араметры настройки таймера для стандартных скоростей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ередачи данных </a:t>
            </a:r>
            <a:br>
              <a:rPr sz="3200"/>
            </a:b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31760" y="2109960"/>
            <a:ext cx="8880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S-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токол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071800" y="785880"/>
            <a:ext cx="5219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орядок обмена по интерфейсу RS-232C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48578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0" t="0" r="47951" b="5721"/>
          <a:stretch/>
        </p:blipFill>
        <p:spPr>
          <a:xfrm>
            <a:off x="5286240" y="1214280"/>
            <a:ext cx="3619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Структурная схема УАПП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28632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Гистерезис компаратора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682120" cy="468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Object 20"/>
          <p:cNvGraphicFramePr/>
          <p:nvPr/>
        </p:nvGraphicFramePr>
        <p:xfrm>
          <a:off x="1071720" y="5572080"/>
          <a:ext cx="2286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5572080"/>
                    <a:ext cx="228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2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23"/>
          <p:cNvGraphicFramePr/>
          <p:nvPr/>
        </p:nvGraphicFramePr>
        <p:xfrm>
          <a:off x="4643280" y="5572080"/>
          <a:ext cx="2714760" cy="114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5572080"/>
                    <a:ext cx="27147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25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Режимы работы UART0. 8-разрядный UAR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5857920" cy="317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22400" y="4627440"/>
            <a:ext cx="88992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Режимы работы UART0.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-разрядный UAR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5857920" cy="317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42920" y="4572000"/>
            <a:ext cx="8858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Поддержка связи с несколькими МК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265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85080" cy="65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SCON0: Регистр управления UART0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5840" y="660240"/>
            <a:ext cx="8572320" cy="11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5723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05:41Z</dcterms:created>
  <dc:creator>maxis</dc:creator>
  <dc:description/>
  <dc:language>en-US</dc:language>
  <cp:lastModifiedBy>maximmus</cp:lastModifiedBy>
  <dcterms:modified xsi:type="dcterms:W3CDTF">2009-02-24T10:52:49Z</dcterms:modified>
  <cp:revision>75</cp:revision>
  <dc:subject/>
  <dc:title>Система команд CIP-51</dc:title>
</cp:coreProperties>
</file>