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9C1-0540-4BE6-893D-69437588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C66-4D0D-45A7-B1DF-58F7BE71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7275-7554-4AA9-8E19-43B6BDCB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81CD-2F35-4293-93D9-4020B2C2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DAF8-AF14-4CBA-88F7-6C946C61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8024-F385-41E3-9B4D-4E22C185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A33A-847E-4BFD-B3E9-64A46905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38BC-A894-457A-AF9B-EA82F978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80CE-5BF8-458F-B8EF-38A5477C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77D8-5F8C-4642-8276-C06EE722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F913-003D-466F-8F56-67CDF5B3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BB1-46A6-4A6E-8DEC-5BC069C9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03DE-6658-4814-8497-812A3E2D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6CCA-B4FC-462F-84CF-581332F3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4B8D-DDE2-4A14-AC5F-9659D4AB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A17E-5FB6-41A9-BD4D-A4F8D0BF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8615-FAD6-4F26-AEFB-5AF466F6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5CFC0-56FD-4B94-90FF-CE26AE5F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AEFD3-9A04-4A83-AB72-A86FB08D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9632D-2555-4E63-BD65-5388EFE1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E2908-5CE6-415F-AB7E-A04DE699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AB8E3-D152-44D7-B0CA-3C606D07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3076-D4B3-41E8-B72F-74825615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81BB0-3884-4BFB-9138-DC60C525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CB310-4923-486C-9E23-EEB29BB6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197AF-D59F-4A80-BCCF-34CC8DE2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4AC8A-AFA7-4475-A53B-459CFAC2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36F48-8E26-4267-88E3-E0B186A9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C63B5-D8AE-4904-BB87-62FDA456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8F9B-C2D3-429F-885E-55419AAA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BD388-C6D1-4FDB-BE44-E9E4EF97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218A2-6BBC-46BF-9A03-751D95FC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5A234-3BA9-4651-A837-42D2CFDC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9C00-000C-4708-AC40-C16CD7C3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E63DA-09CE-4764-AA25-3EBC19CB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BA911-3612-495F-A0F0-0F90FFCC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0C489-0BBC-4063-935D-A2692ED7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6DA6B-2670-456B-B5C8-BA0AED89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4A267-790E-462E-8376-2EA3D106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960FA-A8BB-4F25-8136-A75249FA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A96ED-C34E-4D96-807C-B5F1BA4E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4A3AE-1B86-46F0-8764-00B8CE21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68776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67920" y="216036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79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68776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867920" y="4187880"/>
            <a:ext cx="2075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CFEC1-BFD4-436E-B420-80E47A79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0EE2-88A7-495C-92C3-0837355E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507960" y="609120"/>
            <a:ext cx="6446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5E4-DAB8-42E2-8DFD-EA9AB078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B7B2-A03F-445B-9BA8-D90377E9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11680" y="418788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3D5-9353-46F5-8FD8-AC292114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796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11680" y="2160360"/>
            <a:ext cx="3146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7960" y="4187880"/>
            <a:ext cx="6446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39B-AD2B-4462-9A0B-A7EAF62F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9144000" cy="6865920"/>
            <a:chOff x="0" y="-7920"/>
            <a:chExt cx="914400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7028280" y="360"/>
              <a:ext cx="91440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5568840" y="3681720"/>
              <a:ext cx="357264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6886080" y="-7920"/>
              <a:ext cx="225540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7000920" y="-7920"/>
              <a:ext cx="214056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8174160" y="-7920"/>
              <a:ext cx="96732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8204400" y="-7920"/>
              <a:ext cx="93708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7778880" y="3590280"/>
              <a:ext cx="136260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33624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7927-1760-43BD-B7DC-6C992C95AC0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9144360" cy="6865920"/>
            <a:chOff x="-360" y="-7920"/>
            <a:chExt cx="914436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7028280" y="360"/>
              <a:ext cx="91440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5568840" y="3681720"/>
              <a:ext cx="357264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6886080" y="-7920"/>
              <a:ext cx="225540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7000920" y="-7920"/>
              <a:ext cx="214056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8174160" y="-7920"/>
              <a:ext cx="96732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8204400" y="-7920"/>
              <a:ext cx="93708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7778880" y="3590280"/>
              <a:ext cx="136260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6318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9B29-66A5-4953-9676-0F22106C9CA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9144000" cy="6865920"/>
            <a:chOff x="0" y="-7920"/>
            <a:chExt cx="914400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7028280" y="360"/>
              <a:ext cx="91440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5568840" y="3681720"/>
              <a:ext cx="357264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6886080" y="-7920"/>
              <a:ext cx="225540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7000920" y="-7920"/>
              <a:ext cx="214056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8174160" y="-7920"/>
              <a:ext cx="96732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8204400" y="-7920"/>
              <a:ext cx="93708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7778880" y="3590280"/>
              <a:ext cx="136260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33624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0644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66900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D256-FEAA-4591-8FFD-0358B1C31E5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9144000" cy="6865920"/>
            <a:chOff x="0" y="-7920"/>
            <a:chExt cx="914400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7028280" y="360"/>
              <a:ext cx="91440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5568840" y="3681720"/>
              <a:ext cx="357264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6886080" y="-7920"/>
              <a:ext cx="225540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7202520" y="-7920"/>
              <a:ext cx="194148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6699240" y="3048120"/>
              <a:ext cx="244476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7000920" y="-7920"/>
              <a:ext cx="214056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8174160" y="-7920"/>
              <a:ext cx="96732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8204400" y="-7920"/>
              <a:ext cx="93708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7778880" y="3590280"/>
              <a:ext cx="136260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33624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0644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66900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7960" y="609120"/>
            <a:ext cx="6446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07960" y="2160360"/>
            <a:ext cx="6446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3960" y="6041520"/>
            <a:ext cx="68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507600" y="6041520"/>
            <a:ext cx="4722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3640" y="6041520"/>
            <a:ext cx="5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7670-E651-466F-B185-43C17A9A4C7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040" y="2404800"/>
            <a:ext cx="582444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АЦП и ЦАП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040" y="4051080"/>
            <a:ext cx="582444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Тема №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Использование аналоговых фильтров согласно теореме дискретизации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8715240" cy="2784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rcRect l="45487" t="0" r="0" b="0"/>
          <a:stretch/>
        </p:blipFill>
        <p:spPr>
          <a:xfrm>
            <a:off x="1643040" y="3786120"/>
            <a:ext cx="53578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хема активного фильтра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143920" cy="3571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0" y="4000680"/>
            <a:ext cx="9144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Фильтр с коммутируемой емкостью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46080" y="1000080"/>
            <a:ext cx="90979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0787" t="0" r="0" b="68580"/>
          <a:stretch/>
        </p:blipFill>
        <p:spPr>
          <a:xfrm>
            <a:off x="0" y="1357200"/>
            <a:ext cx="3187800" cy="2600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2"/>
          <a:srcRect l="0" t="0" r="53927" b="69538"/>
          <a:stretch/>
        </p:blipFill>
        <p:spPr>
          <a:xfrm>
            <a:off x="0" y="4218120"/>
            <a:ext cx="2984400" cy="25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3"/>
          <a:srcRect l="0" t="33334" r="53406" b="39207"/>
          <a:stretch/>
        </p:blipFill>
        <p:spPr>
          <a:xfrm>
            <a:off x="3071880" y="4467240"/>
            <a:ext cx="3017880" cy="2271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4"/>
          <a:srcRect l="50614" t="33744" r="0" b="39891"/>
          <a:stretch/>
        </p:blipFill>
        <p:spPr>
          <a:xfrm>
            <a:off x="2928960" y="1774800"/>
            <a:ext cx="3198960" cy="2182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5"/>
          <a:srcRect l="0" t="63117" r="54626" b="10929"/>
          <a:stretch/>
        </p:blipFill>
        <p:spPr>
          <a:xfrm>
            <a:off x="6205680" y="4591080"/>
            <a:ext cx="2938320" cy="2147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" descr=""/>
          <p:cNvPicPr/>
          <p:nvPr/>
        </p:nvPicPr>
        <p:blipFill>
          <a:blip r:embed="rId6"/>
          <a:srcRect l="51486" t="63389" r="0" b="10519"/>
          <a:stretch/>
        </p:blipFill>
        <p:spPr>
          <a:xfrm>
            <a:off x="6000840" y="1809720"/>
            <a:ext cx="3143160" cy="2147760"/>
          </a:xfrm>
          <a:prstGeom prst="rect">
            <a:avLst/>
          </a:prstGeom>
          <a:ln w="0">
            <a:noFill/>
          </a:ln>
        </p:spPr>
      </p:pic>
      <p:sp>
        <p:nvSpPr>
          <p:cNvPr id="278" name="Заголовок 1"/>
          <p:cNvSpPr/>
          <p:nvPr/>
        </p:nvSpPr>
        <p:spPr>
          <a:xfrm>
            <a:off x="214200" y="0"/>
            <a:ext cx="892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c3c43"/>
                </a:solidFill>
                <a:latin typeface="Times New Roman"/>
                <a:ea typeface="Times New Roman"/>
              </a:rPr>
              <a:t>Резкость частоты отсечки и неравномерность фильт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тупенчатый отклик фильтров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828684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тупенчатый отклик фильтров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357120" y="928800"/>
            <a:ext cx="76438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Выбор антиэлайзингового фильтра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857160" y="100008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днобитовое преобразование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785808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днобитовое преобразование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428760" y="1000080"/>
            <a:ext cx="800100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Блок-схема </a:t>
            </a:r>
            <a:r>
              <a:rPr b="1" lang="en-US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CVSD </a:t>
            </a:r>
            <a:r>
              <a:rPr b="1" lang="ru-RU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модулятора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771516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429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Иллюстрация процесса оцифровк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5" name="Picture 29" descr=""/>
          <p:cNvPicPr/>
          <p:nvPr/>
        </p:nvPicPr>
        <p:blipFill>
          <a:blip r:embed="rId1"/>
          <a:srcRect l="0" t="0" r="54228" b="77369"/>
          <a:stretch/>
        </p:blipFill>
        <p:spPr>
          <a:xfrm>
            <a:off x="214200" y="785880"/>
            <a:ext cx="2678400" cy="1876320"/>
          </a:xfrm>
          <a:prstGeom prst="rect">
            <a:avLst/>
          </a:prstGeom>
          <a:ln w="0">
            <a:noFill/>
          </a:ln>
        </p:spPr>
      </p:pic>
      <p:grpSp>
        <p:nvGrpSpPr>
          <p:cNvPr id="216" name="Группа 31"/>
          <p:cNvGrpSpPr/>
          <p:nvPr/>
        </p:nvGrpSpPr>
        <p:grpSpPr>
          <a:xfrm>
            <a:off x="2928960" y="642960"/>
            <a:ext cx="6000840" cy="6111720"/>
            <a:chOff x="2928960" y="642960"/>
            <a:chExt cx="6000840" cy="6111720"/>
          </a:xfrm>
        </p:grpSpPr>
        <p:pic>
          <p:nvPicPr>
            <p:cNvPr id="217" name="Picture 30" descr=""/>
            <p:cNvPicPr/>
            <p:nvPr/>
          </p:nvPicPr>
          <p:blipFill>
            <a:blip r:embed="rId2"/>
            <a:srcRect l="0" t="22426" r="2912" b="3705"/>
            <a:stretch/>
          </p:blipFill>
          <p:spPr>
            <a:xfrm>
              <a:off x="2928960" y="669240"/>
              <a:ext cx="6000840" cy="608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Прямоугольник 30"/>
            <p:cNvSpPr/>
            <p:nvPr/>
          </p:nvSpPr>
          <p:spPr>
            <a:xfrm>
              <a:off x="3929040" y="642960"/>
              <a:ext cx="428400" cy="785520"/>
            </a:xfrm>
            <a:prstGeom prst="rect">
              <a:avLst/>
            </a:prstGeom>
            <a:solidFill>
              <a:srgbClr val="ffffff"/>
            </a:solidFill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9" name="Прямая со стрелкой 33"/>
          <p:cNvCxnSpPr/>
          <p:nvPr/>
        </p:nvCxnSpPr>
        <p:spPr>
          <a:xfrm>
            <a:off x="2714760" y="999720"/>
            <a:ext cx="1072080" cy="2520"/>
          </a:xfrm>
          <a:prstGeom prst="straightConnector1">
            <a:avLst/>
          </a:prstGeom>
          <a:ln cap="rnd"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Блок-схема дельта-сигма АЦП.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0" y="1643040"/>
            <a:ext cx="90774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429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Иллюстрация процесса оцифровк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rcRect l="0" t="43984" r="0" b="0"/>
          <a:stretch/>
        </p:blipFill>
        <p:spPr>
          <a:xfrm>
            <a:off x="642960" y="785880"/>
            <a:ext cx="79297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Иллюстрация корректной и некорректной дискретизации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85840" y="1143000"/>
            <a:ext cx="86439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Преобразование аналоговой частоты в цифровую в процессе дискретизации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50104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Дискретизация во временной и частотной област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rcRect l="52364" t="4501" r="0" b="67001"/>
          <a:stretch/>
        </p:blipFill>
        <p:spPr>
          <a:xfrm>
            <a:off x="428760" y="3929040"/>
            <a:ext cx="2903400" cy="2139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rcRect l="51748" t="35669" r="0" b="33835"/>
          <a:stretch/>
        </p:blipFill>
        <p:spPr>
          <a:xfrm>
            <a:off x="3429000" y="3929040"/>
            <a:ext cx="2941560" cy="22906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3"/>
          <a:srcRect l="51748" t="35669" r="0" b="33835"/>
          <a:stretch/>
        </p:blipFill>
        <p:spPr>
          <a:xfrm>
            <a:off x="3357720" y="3929040"/>
            <a:ext cx="2941560" cy="2290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4"/>
          <a:srcRect l="51748" t="35669" r="0" b="33835"/>
          <a:stretch/>
        </p:blipFill>
        <p:spPr>
          <a:xfrm>
            <a:off x="3286080" y="3929040"/>
            <a:ext cx="2941560" cy="2290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5"/>
          <a:srcRect l="0" t="5026" r="52364" b="67168"/>
          <a:stretch/>
        </p:blipFill>
        <p:spPr>
          <a:xfrm>
            <a:off x="0" y="1428840"/>
            <a:ext cx="2903400" cy="2077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6"/>
          <a:srcRect l="52364" t="4501" r="0" b="67001"/>
          <a:stretch/>
        </p:blipFill>
        <p:spPr>
          <a:xfrm>
            <a:off x="142920" y="3929040"/>
            <a:ext cx="2903400" cy="2139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7"/>
          <a:srcRect l="0" t="36166" r="53391" b="35500"/>
          <a:stretch/>
        </p:blipFill>
        <p:spPr>
          <a:xfrm>
            <a:off x="3071880" y="1428840"/>
            <a:ext cx="2841480" cy="2127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"/>
          <p:cNvPicPr/>
          <p:nvPr/>
        </p:nvPicPr>
        <p:blipFill>
          <a:blip r:embed="rId8"/>
          <a:srcRect l="51748" t="35669" r="0" b="33835"/>
          <a:stretch/>
        </p:blipFill>
        <p:spPr>
          <a:xfrm>
            <a:off x="3143160" y="3929040"/>
            <a:ext cx="2941560" cy="2290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9"/>
          <a:srcRect l="0" t="66501" r="52980" b="4334"/>
          <a:stretch/>
        </p:blipFill>
        <p:spPr>
          <a:xfrm>
            <a:off x="5991120" y="1428840"/>
            <a:ext cx="2867040" cy="2203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10"/>
          <a:srcRect l="51950" t="66670" r="0" b="4974"/>
          <a:stretch/>
        </p:blipFill>
        <p:spPr>
          <a:xfrm>
            <a:off x="5929200" y="3929040"/>
            <a:ext cx="2928960" cy="2139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11"/>
          <a:srcRect l="0" t="36166" r="53391" b="35500"/>
          <a:stretch/>
        </p:blipFill>
        <p:spPr>
          <a:xfrm>
            <a:off x="3000240" y="1428840"/>
            <a:ext cx="2841840" cy="2127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12"/>
          <a:srcRect l="51748" t="35669" r="0" b="33835"/>
          <a:stretch/>
        </p:blipFill>
        <p:spPr>
          <a:xfrm>
            <a:off x="3071880" y="3929040"/>
            <a:ext cx="2941560" cy="2290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13"/>
          <a:srcRect l="51748" t="35669" r="0" b="33835"/>
          <a:stretch/>
        </p:blipFill>
        <p:spPr>
          <a:xfrm>
            <a:off x="3000240" y="3929040"/>
            <a:ext cx="294192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Дискретизация во временной и частотной област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rcRect l="0" t="0" r="0" b="49619"/>
          <a:stretch/>
        </p:blipFill>
        <p:spPr>
          <a:xfrm>
            <a:off x="0" y="1285920"/>
            <a:ext cx="9144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Дискретизация во временной и частотной област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rcRect l="52933" t="25002" r="0" b="25635"/>
          <a:stretch/>
        </p:blipFill>
        <p:spPr>
          <a:xfrm>
            <a:off x="428760" y="1214280"/>
            <a:ext cx="3844800" cy="5643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rcRect l="4084" t="73098" r="51334" b="3173"/>
          <a:stretch/>
        </p:blipFill>
        <p:spPr>
          <a:xfrm>
            <a:off x="4500720" y="4071960"/>
            <a:ext cx="3786120" cy="2660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3"/>
          <a:srcRect l="53822" t="73732" r="3374" b="2910"/>
          <a:stretch/>
        </p:blipFill>
        <p:spPr>
          <a:xfrm>
            <a:off x="4357800" y="1214280"/>
            <a:ext cx="38574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Дискретизация во временной и частотной област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rcRect l="52933" t="25002" r="0" b="25635"/>
          <a:stretch/>
        </p:blipFill>
        <p:spPr>
          <a:xfrm>
            <a:off x="785880" y="2286000"/>
            <a:ext cx="3844800" cy="4572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rcRect l="4084" t="73098" r="51334" b="3173"/>
          <a:stretch/>
        </p:blipFill>
        <p:spPr>
          <a:xfrm>
            <a:off x="5357880" y="4071960"/>
            <a:ext cx="3786120" cy="2660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"/>
          <p:cNvPicPr/>
          <p:nvPr/>
        </p:nvPicPr>
        <p:blipFill>
          <a:blip r:embed="rId3"/>
          <a:srcRect l="53822" t="73732" r="3374" b="2910"/>
          <a:stretch/>
        </p:blipFill>
        <p:spPr>
          <a:xfrm>
            <a:off x="5214960" y="121428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1"/>
              <p:cNvSpPr txBox="1"/>
              <p:nvPr/>
            </p:nvSpPr>
            <p:spPr>
              <a:xfrm>
                <a:off x="1643040" y="1357200"/>
                <a:ext cx="19494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f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f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  <m:r>
                              <m:t xml:space="preserve">s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3:49:10Z</dcterms:created>
  <dc:creator>Admin</dc:creator>
  <dc:description/>
  <dc:language>en-US</dc:language>
  <cp:lastModifiedBy>Давыдов М.В.</cp:lastModifiedBy>
  <dcterms:modified xsi:type="dcterms:W3CDTF">2017-09-27T12:12:40Z</dcterms:modified>
  <cp:revision>44</cp:revision>
  <dc:subject/>
  <dc:title>ЛИНЕЙНЫЕ СИСТЕМЫ</dc:title>
</cp:coreProperties>
</file>